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1515-8E4F-42C2-A9FB-CC803790C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d signal is ideal, so in order to match the timing of the two signals, the SE signal is delayed so the data from the BL/BLB is ready to be accepted by the Sense 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8587-FEF6-436A-BCB5-7B2C98FA8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888-B1CE-4FA5-8CC9-76FAF7FB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DAD-BD7C-4B33-837F-5F5988E7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503-45A8-41E8-9EC2-5CA204E4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076-AD57-4B10-B49E-05A354AA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DF9A-E95B-4F67-AF18-E961D940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CF80-E266-4492-B982-578A601D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D78E-1D9A-4534-86E1-ABAD8483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F597-340C-47BD-8406-060EBB16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F78C-DEC3-4776-B50A-2A0EA935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7CB0-C9F5-4981-A31B-8440364A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0A29-3195-401F-9C0C-5D7BC6EC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25A-CC4F-49B5-B5E3-30CDB87D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28AE-721F-4CCC-98CF-8FFA9292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1F13-7EDB-4958-9564-53BFCFA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681B-C462-4252-8863-A0CD78AF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8EE7-25C8-4F45-8E5F-F0AA32E8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007C-B39C-4DD9-BE42-D09E063F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7062C-FA35-4D2F-9E0A-9743B5E4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31725-5470-43BB-BB49-17397A97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6EBEB-B706-4C16-99CB-D04074F2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4EFAD-4647-42FE-B472-BA278CF3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6A044-C0D0-4C9F-A3B0-5FC04307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E03-9237-4415-97CE-ACF291BA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80FD5-E057-4502-B61B-9875A78B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1BA50-42FB-4F41-AA93-585F36D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4DFDC-F5C0-43B7-B406-D888A93D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26698-AE6B-4B4B-8D12-8E964597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43C20-0059-4A8F-B249-76A4B1D3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4B303-7C46-4C6A-9510-50BA36D0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45299-B6C5-459E-86C1-960A5A0E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CF5AB-CF5C-4EC5-BEB1-6B5DEEC4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9960-2066-4861-9780-1DECBDD3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FBD3A-FD5D-4770-9314-1CF1DCC5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B00-7580-4596-BC2D-F63A696B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1D4F-39FD-42D1-8C2C-CF114935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5D392-A035-4E06-A317-0F6154B9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F977D-66A3-4BCF-859C-4858B523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CB9C-BFC3-4612-8AB8-CDB11F32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4FE7F-DB6F-48CC-855B-2E8BEEB9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DD0A8-B6D8-4186-BD5F-84C94C50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58229-788C-4764-BD82-4BC864F1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F91A-E4D9-4217-A966-0CAC6C66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D5963-D4F1-4153-BF57-2944E5EF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77032E-A438-48CE-8747-6087AA23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924-9F1B-4987-AD8D-BE7D470F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96AA3-2DA6-4D0E-99BC-1C7395A1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D2F9A-14A3-478E-9360-EC9E1F63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0AE22-A686-400E-921D-DF0FE5ED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76EF5-94EB-4F4B-BDB3-9B28F0F9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24A62-C4DE-4256-BD22-293E0D1A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17AD7-457B-4AE6-AAD8-4A8DB4A4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8235A-EE26-4D63-ABFE-F307213F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F6C44-0865-4431-9489-A3320EB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F98ED-253A-4715-BEB6-BF607BE3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2BE80-0DA7-41A1-B155-5AC915BF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824-B04B-48EF-9593-D854FFD1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D00B3-8D3F-4A8B-94CD-2A2699A1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1E781-379C-4F3A-8010-8A7AC0A6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D0E67-72A4-41E0-ACFC-B5AC158F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CF78C-A78A-4F2F-9B43-3BB20176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71695-D6D4-4053-93CB-1D8D1FD2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FFEE4-4514-46A1-917A-D2C8FAF5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FC364-C6DE-493E-B2A2-51E50352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9B083D-B7DF-4C32-B8CE-0CA1EE39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2A79A0-4E60-402A-AE67-664019B0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3FD09-4D34-4527-934B-1A966ECE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664-170E-4E16-85BE-84EFB965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887A1-9E2F-47FD-83D7-6652BCC1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CBB6C-D31C-41D7-8F3D-538E6A49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01BFA0-08FB-4B44-BBE2-A3DC59A9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D353C-8D59-41DD-8BCC-9CC17353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4EE70-BEC3-4EC1-9AEB-5D2E42F8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9A1FE-BF19-4901-B39B-90CB276F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79645-35A3-4BAF-890F-D6C892EF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BC194-A85C-48DE-A497-B7EC2831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0A33D-E0B6-4967-8E65-80540A2E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F576F-21B0-4DB5-AE90-275CD773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816-9269-4EBB-9ADE-B76F193A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4B97C-9EF2-4097-90D6-2B89EFAA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B5204-0ACE-4231-AA12-2274D5E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86DAE6-90FD-4069-B11A-A0230FB6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EEFB5-3F3D-4D89-997B-9B7303D7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074D7-DE54-4C60-A23D-CF708875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3E4-4066-4ADB-8CD3-5825C84B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6807-24BD-4C82-861F-2AD3B07372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77DA-33B9-4DE5-A2A6-771F820F37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6A3B-206C-4979-B85F-ED4C46DF0B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3E6A-B422-4C0F-94D0-6C9CFBB06A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35AA-A411-421D-B943-9EEC59FE2C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AC63-34C0-46FD-A6F1-EAD6C0E54B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56D1-F348-4117-B1F7-30195CD9F4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200040"/>
            <a:ext cx="617220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DESIGNING A LOW POWER SRAM FOR PIC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ECE4332 : Team 4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harif Morad, Maxwell Martin, Jaleesa Boykin, Marc Ha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December 2</a:t>
            </a:r>
            <a:r>
              <a:rPr b="1" lang="en-US" sz="1800" spc="-1" strike="noStrike" baseline="30000">
                <a:solidFill>
                  <a:srgbClr val="575f6d"/>
                </a:solidFill>
                <a:latin typeface="Century Schoolbook"/>
              </a:rPr>
              <a:t>nd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2743200" y="1371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OVE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LSI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” ~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Benton Calhoun, August 25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URTHER OPTIMIZAT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wer VD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5V to 2.5V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 Clock peri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 ratio width of pre-charge transistors to data write transis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ock signal buffer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sed FO4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AYOU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373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d past desig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ed methods to save ar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rror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nimum sized gap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rcRect l="12292" t="12681" r="5951" b="8186"/>
          <a:stretch/>
        </p:blipFill>
        <p:spPr>
          <a:xfrm>
            <a:off x="4060800" y="1143000"/>
            <a:ext cx="4492800" cy="3505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2"/>
          <a:srcRect l="0" t="0" r="11113" b="10527"/>
          <a:stretch/>
        </p:blipFill>
        <p:spPr>
          <a:xfrm>
            <a:off x="533520" y="4267080"/>
            <a:ext cx="3225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IMUL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ulated model of entire arr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tracted bit line and word line R/C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ased on layout lengths/width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sted and verified functionality 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cess corners (TT, FF, SS, SF, F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 voltages (2.5V, 5V, 5.5V, 4.5V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mperature (50C, 27C, 0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2590920" y="838080"/>
            <a:ext cx="3581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Write 1, Read 1, Write 0 at TT, 2.5V (nominal), 27°C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533520" y="1515960"/>
            <a:ext cx="7467480" cy="5342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L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R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~68.916m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la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72.18ns (worst case delay for read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tal Are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pproximately .524mm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wer Metric: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79633.89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m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ns*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LLEN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deoff deci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ich knobs to turn and amount of sensitiv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ring/Layou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ook a long time, changing design was difficul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KILL may have help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gnitude of SRA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roubleshooting Cade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icking to schedule/time constrai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rver cras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09680" y="2437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5f6d"/>
                </a:solidFill>
                <a:latin typeface="Century Schoolbook"/>
              </a:rPr>
              <a:t>QUESTIONS?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SIGN GOA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in metric for low power 1Mb S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Total Power)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* Delay * Area  = (mW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*ns*mm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32 bit word size for read or wri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puts: Address bits, data in, read, write, CL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utputs: data ou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unctionality at all process corners with various temperatu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RRAY ARCHITECTU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5308560" cy="40006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380880" y="1600200"/>
            <a:ext cx="3276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6 bloc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8 words/bl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56 x 256 bit cells per bl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ck Pre-charg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erarchical W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ed BLs/BLB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nse Am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IT CEL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 xtor bit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lculations and vigorous testing to minimize wid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COD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523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ck Selec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erarchical W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 and Dela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coder Enable Sel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448080" cy="2550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038480" y="4648320"/>
            <a:ext cx="2667240" cy="1947600"/>
          </a:xfrm>
          <a:prstGeom prst="rect">
            <a:avLst/>
          </a:prstGeom>
          <a:ln w="0">
            <a:noFill/>
          </a:ln>
        </p:spPr>
      </p:pic>
      <p:cxnSp>
        <p:nvCxnSpPr>
          <p:cNvPr id="373" name="Elbow Connector 8"/>
          <p:cNvCxnSpPr/>
          <p:nvPr/>
        </p:nvCxnSpPr>
        <p:spPr>
          <a:xfrm flipV="1" rot="16200000">
            <a:off x="5218920" y="4533120"/>
            <a:ext cx="1524600" cy="686520"/>
          </a:xfrm>
          <a:prstGeom prst="bentConnector3">
            <a:avLst>
              <a:gd name="adj1" fmla="val 69792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Elbow Connector 11"/>
          <p:cNvCxnSpPr/>
          <p:nvPr/>
        </p:nvCxnSpPr>
        <p:spPr>
          <a:xfrm flipH="1" flipV="1" rot="5400000">
            <a:off x="5142240" y="3999960"/>
            <a:ext cx="991440" cy="3960"/>
          </a:xfrm>
          <a:prstGeom prst="bentConnector3">
            <a:avLst>
              <a:gd name="adj1" fmla="val 49981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Elbow Connector 37"/>
          <p:cNvCxnSpPr/>
          <p:nvPr/>
        </p:nvCxnSpPr>
        <p:spPr>
          <a:xfrm flipH="1" flipV="1" rot="5400000">
            <a:off x="6095520" y="5410440"/>
            <a:ext cx="456480" cy="3960"/>
          </a:xfrm>
          <a:prstGeom prst="bentConnector3">
            <a:avLst>
              <a:gd name="adj1" fmla="val 4996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76" name="Straight Arrow Connector 39"/>
          <p:cNvCxnSpPr/>
          <p:nvPr/>
        </p:nvCxnSpPr>
        <p:spPr>
          <a:xfrm flipV="1">
            <a:off x="6321960" y="4039560"/>
            <a:ext cx="396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7" name="Picture 4" descr=""/>
          <p:cNvPicPr/>
          <p:nvPr/>
        </p:nvPicPr>
        <p:blipFill>
          <a:blip r:embed="rId3"/>
          <a:stretch/>
        </p:blipFill>
        <p:spPr>
          <a:xfrm>
            <a:off x="990720" y="3657600"/>
            <a:ext cx="3516120" cy="2209680"/>
          </a:xfrm>
          <a:prstGeom prst="rect">
            <a:avLst/>
          </a:prstGeom>
          <a:ln w="0">
            <a:noFill/>
          </a:ln>
        </p:spPr>
      </p:pic>
      <p:cxnSp>
        <p:nvCxnSpPr>
          <p:cNvPr id="378" name="Elbow Connector 46"/>
          <p:cNvCxnSpPr/>
          <p:nvPr/>
        </p:nvCxnSpPr>
        <p:spPr>
          <a:xfrm flipH="1" flipV="1" rot="5400000">
            <a:off x="4113720" y="3199680"/>
            <a:ext cx="1981800" cy="762840"/>
          </a:xfrm>
          <a:prstGeom prst="bentConnector3">
            <a:avLst>
              <a:gd name="adj1" fmla="val 92914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9" name="Straight Connector 52"/>
          <p:cNvSpPr/>
          <p:nvPr/>
        </p:nvSpPr>
        <p:spPr>
          <a:xfrm flipH="1">
            <a:off x="3809880" y="457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0" name="Straight Arrow Connector 61"/>
          <p:cNvCxnSpPr/>
          <p:nvPr/>
        </p:nvCxnSpPr>
        <p:spPr>
          <a:xfrm flipV="1">
            <a:off x="6323040" y="3504960"/>
            <a:ext cx="2160" cy="1297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ACC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ing BL/BL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Xing only column blocks saves 32256 x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562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E AMPLIFI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3581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2 Sense Amps/block colum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duce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ed BL/BL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ves 35712 x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layed SE signal    to wait for BL/BLB da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3524400" y="2057400"/>
            <a:ext cx="516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E-CHARGE BLOC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447560"/>
            <a:ext cx="3809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/BLB shor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ly require 4 pre-charge blocks as opposed to 16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6144 x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erarchical pre-char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lock Select Sig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duces CLK signal loa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3962520" cy="2182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13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WRIT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3276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ing BL/BL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 xtors for only block colum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6144 x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umn Block Selec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3726000" cy="2057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724280" y="3886200"/>
            <a:ext cx="32115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0:06:42Z</dcterms:created>
  <dc:creator>lcuser</dc:creator>
  <dc:description/>
  <dc:language>en-US</dc:language>
  <cp:lastModifiedBy>lcuser</cp:lastModifiedBy>
  <dcterms:modified xsi:type="dcterms:W3CDTF">2009-12-01T03:31:30Z</dcterms:modified>
  <cp:revision>16</cp:revision>
  <dc:subject/>
  <dc:title>Designing a Low Power SRAM for PICo </dc:title>
</cp:coreProperties>
</file>